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D09-BD8B-41C6-996E-2693A91A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C1C-0C4E-428F-99B3-07063A31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98F-6BCD-4065-B448-9DA07BC5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F2A-0E39-48D4-9CC8-427E04DD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C88B-A082-422F-B47D-3B68331D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6FD8-54A7-4158-841B-C1BAA3CD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43AA-6580-458E-90E7-0CBDAFA5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9A92-4E3B-46CB-85F4-F53618ED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709D-4EAE-472B-A213-BE71CC09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9DA8-FA7E-4E56-9960-CC59F129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E85C-38D7-42EC-AF85-85D4243E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E4A-2043-4A55-B953-97C44683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E58B-4F77-470D-ABFE-6D0F11D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4539-CC1C-4EBC-8AD4-C167119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D77A-24B4-4AEE-9DB9-E61A3F65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7E41-C75F-4C9E-9D01-C4055685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AA18-4BCE-4D53-808B-B9C118A9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1EF-E90D-48FC-8239-D60912C4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5DE-D068-4FB0-AE04-0F030CE9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F2E-DE8E-4E1D-9DA4-C878F559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336-CD22-4EE5-B828-D104122B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280-286E-4450-919B-B493870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DCD-560B-43A4-A0A7-363DA2E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134-5B65-41B8-876C-3100CBB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3119-3066-4BB6-BA74-F39885FEB3E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02AD-2B7B-4485-A54C-904C4968F6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google.com/imgres?imgurl=http://noesolmusic.files.wordpress.com/2008/11/colores-palabras12.jpg&amp;imgrefurl=http://noesolmusic.wordpress.com/2008/11/16/la-luz/&amp;usg=__OLeijsWMa1A2sO-B2f46b3g6Y0U=&amp;h=300&amp;w=450&amp;sz=34&amp;hl=en&amp;start=9&amp;itbs=1&amp;tbnid=jfd7c2iJxf9a8M:&amp;tbnh=85&amp;tbnw=127&amp;prev=/images%3Fq%3Dcolores%26hl%3Den%26safe%3Dactive%26sa%3DG%26gbv%3D2%26ndsp%3D20%26tbs%3Disch: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clase de espano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: Veronica  Bry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depar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 juego tenis y basqe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gusta golf y  el fu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tenis y nie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gusta el boxe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juego basqe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772080" cy="1752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f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3733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estaci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r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ave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o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9:23:13Z</dcterms:created>
  <dc:creator>WSFCS Workstation</dc:creator>
  <dc:description/>
  <dc:language>en-US</dc:language>
  <cp:lastModifiedBy>WSFCS Workstation</cp:lastModifiedBy>
  <dcterms:modified xsi:type="dcterms:W3CDTF">2010-04-26T19:49:43Z</dcterms:modified>
  <cp:revision>3</cp:revision>
  <dc:subject/>
  <dc:title>La clase de espanol</dc:title>
</cp:coreProperties>
</file>